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16.wmf" ContentType="image/x-wmf"/>
  <Override PartName="/ppt/media/image11.wmf" ContentType="image/x-wmf"/>
  <Override PartName="/ppt/media/image26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10.jpeg" ContentType="image/jpeg"/>
  <Override PartName="/ppt/media/image13.wmf" ContentType="image/x-wmf"/>
  <Override PartName="/ppt/media/EXPLODE.WAV" ContentType="audio/x-wav"/>
  <Override PartName="/ppt/media/image27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WHOOSH.WAV" ContentType="audio/x-wav"/>
  <Override PartName="/ppt/media/image29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3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BC94-6FE9-40CC-A94A-BEFBD5009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674D-5C0A-42B7-AC54-3DD720D9211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CCCF-7357-4688-ABD7-5AB10B594E75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CEDC-0EAE-4FAE-AE79-BA5049A8A527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88A6-66BE-4F14-8D41-343E2420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2EC-DCDB-4D29-AA9C-5F14BA34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7BD-2247-4050-A7D2-3DA54145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0CE-EE45-4935-B00C-D6162FAA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4415-CFBE-4B11-A554-5BE84E44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433B-578F-4532-8F7E-02C73F99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C971-E706-4E94-A88E-96CE885A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01B2-AF2B-49E1-9CA3-651041D3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0CC7-E030-4336-AEC1-F1AC6D5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D168-CECD-4BAE-8292-2DA91944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82B0-8FD9-40BC-9C23-422FB00A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62F-604E-4F47-87D2-1E4E2741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CD20-1310-464C-916D-F1D0075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436F-173C-4BCF-BBCD-6AD0C1E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8C57-7605-4996-933A-F1166389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DF6C-0C5D-4384-8307-4A0C228D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420-7749-431F-87BD-CC0AE8F8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EC2-8AB6-4475-834F-A5349179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B29-37C3-4AB2-91AC-2DDD070A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821-54EE-4BC9-BAB3-43C991ED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729-F756-44BF-B0A6-A73BDCE7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013-407E-4679-BB0A-95803F3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2D2-125E-456D-9D67-FFA1C830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6CB-E843-49E0-828F-2174E876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4D9C-11EB-4B8A-B406-F2098AD89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188F-D0CC-46BC-AD10-AD413E4AA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Grant Writing 10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cbcbcb"/>
                </a:solidFill>
                <a:latin typeface="Comic Sans MS"/>
              </a:rPr>
              <a:t>There is no grantsmanship that will turn a bad idea into a good one, but there are many ways to disguise a good idea.” - Norm Braverman, N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ypes of Fun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rant -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urpose is to transfer money, property, services, or anything of value to recipient in order to accomplish a public purp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substantial involvement is anticipated between the sponsor and the recip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operative Agreement -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stantial involvement between sponsor and recip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ntract - Procu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quire property or services for direct benefit or use of the funding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nsulta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ually will require a formal agreement such as a subcontract, MOA or MO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bstantive part of work for it to be subcon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ould be named in grant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ustification for selection must be docu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0" dur="indefinite" restart="never" nodeType="tmRoot">
          <p:childTnLst>
            <p:seq>
              <p:cTn id="2421" dur="indefinite" nodeType="mainSeq">
                <p:childTnLst>
                  <p:par>
                    <p:cTn id="2422" nodeType="clickEffect" fill="hold">
                      <p:stCondLst>
                        <p:cond delay="indefinite"/>
                      </p:stCondLst>
                      <p:childTnLst>
                        <p:par>
                          <p:cTn id="2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nodeType="clickEffect" fill="hold">
                      <p:stCondLst>
                        <p:cond delay="indefinite"/>
                      </p:stCondLst>
                      <p:childTnLst>
                        <p:par>
                          <p:cTn id="2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nodeType="clickEffect" fill="hold">
                      <p:stCondLst>
                        <p:cond delay="indefinite"/>
                      </p:stCondLst>
                      <p:childTnLst>
                        <p:par>
                          <p:cTn id="2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ypes of Subaward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bcontract/Subgrant/Sub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sulting agreement (MOU or MO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rchase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2" dur="indefinite" restart="never" nodeType="tmRoot">
          <p:childTnLst>
            <p:seq>
              <p:cTn id="2443" dur="indefinite" nodeType="mainSeq">
                <p:childTnLst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nodeType="clickEffect" fill="hold">
                      <p:stCondLst>
                        <p:cond delay="indefinite"/>
                      </p:stCondLst>
                      <p:childTnLst>
                        <p:par>
                          <p:cTn id="2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8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memb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bcontracts are never to individuals, only to organiz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developing a subcontract, make sure the time by which reports from the subcontractor must by in to you are much earlier, than when you have to submit your final rep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nsulting Agre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“consultant” is not an “employe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sultants operate as independent contractors without detailed super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emporary, highly technical, urgent, special services that cannot be performed by a college employ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nodeType="clickEffect" fill="hold">
                      <p:stCondLst>
                        <p:cond delay="indefinite"/>
                      </p:stCondLst>
                      <p:childTnLst>
                        <p:par>
                          <p:cTn id="2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nodeType="clickEffect" fill="hold">
                      <p:stCondLst>
                        <p:cond delay="indefinite"/>
                      </p:stCondLst>
                      <p:childTnLst>
                        <p:par>
                          <p:cTn id="2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2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7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Comic Sans MS"/>
              </a:rPr>
              <a:t>Equip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 Whitworth, anything over $1,000 is considered equip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 $5,000 or greater, 1 yr. useful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 most cases the institution retains title to the equipment at the end of the g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8" dur="indefinite" restart="never" nodeType="tmRoot">
          <p:childTnLst>
            <p:seq>
              <p:cTn id="2489" dur="indefinite" nodeType="mainSeq">
                <p:childTnLst>
                  <p:par>
                    <p:cTn id="2490" nodeType="clickEffect" fill="hold">
                      <p:stCondLst>
                        <p:cond delay="indefinite"/>
                      </p:stCondLst>
                      <p:childTnLst>
                        <p:par>
                          <p:cTn id="2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nodeType="clickEffect" fill="hold">
                      <p:stCondLst>
                        <p:cond delay="indefinite"/>
                      </p:stCondLst>
                      <p:childTnLst>
                        <p:par>
                          <p:cTn id="2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ything that does not fall into any other categ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ng distance phone, but not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pies - if they can be trac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blishing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uman subjects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uter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nodeType="clickEffect" fill="hold">
                      <p:stCondLst>
                        <p:cond delay="indefinite"/>
                      </p:stCondLst>
                      <p:childTnLst>
                        <p:par>
                          <p:cTn id="2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nodeType="clickEffect" fill="hold">
                      <p:stCondLst>
                        <p:cond delay="indefinite"/>
                      </p:stCondLst>
                      <p:childTnLst>
                        <p:par>
                          <p:cTn id="2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6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nodeType="clickEffect" fill="hold">
                      <p:stCondLst>
                        <p:cond delay="indefinite"/>
                      </p:stCondLst>
                      <p:childTnLst>
                        <p:par>
                          <p:cTn id="2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6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ther Possible Sec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ferences or Literature C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standard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use boiler plate - what is available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you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ow you have access to what you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nodeType="clickEffect" fill="hold">
                      <p:stCondLst>
                        <p:cond delay="indefinite"/>
                      </p:stCondLst>
                      <p:childTnLst>
                        <p:par>
                          <p:cTn id="2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nodeType="clickEffect" fill="hold">
                      <p:stCondLst>
                        <p:cond delay="indefinite"/>
                      </p:stCondLst>
                      <p:childTnLst>
                        <p:par>
                          <p:cTn id="2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nodeType="clickEffect" fill="hold">
                      <p:stCondLst>
                        <p:cond delay="indefinite"/>
                      </p:stCondLst>
                      <p:childTnLst>
                        <p:par>
                          <p:cTn id="2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3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nodeType="clickEffect" fill="hold">
                      <p:stCondLst>
                        <p:cond delay="indefinite"/>
                      </p:stCondLst>
                      <p:childTnLst>
                        <p:par>
                          <p:cTn id="2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nodeType="clickEffect" fill="hold">
                      <p:stCondLst>
                        <p:cond delay="indefinite"/>
                      </p:stCondLst>
                      <p:childTnLst>
                        <p:par>
                          <p:cTn id="2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dequacy of 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view your budget objec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ve you requested enough funding to complete the project profession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rget your budget to the “average” award range indicated by the a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may need to demonstrate that the institution has adequate facilities to do the project as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4" dur="indefinite" restart="never" nodeType="tmRoot">
          <p:childTnLst>
            <p:seq>
              <p:cTn id="2565" dur="indefinite" nodeType="mainSeq">
                <p:childTnLst>
                  <p:par>
                    <p:cTn id="2566" nodeType="clickEffect" fill="hold">
                      <p:stCondLst>
                        <p:cond delay="indefinite"/>
                      </p:stCondLst>
                      <p:childTnLst>
                        <p:par>
                          <p:cTn id="2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nodeType="clickEffect" fill="hold">
                      <p:stCondLst>
                        <p:cond delay="indefinite"/>
                      </p:stCondLst>
                      <p:childTnLst>
                        <p:par>
                          <p:cTn id="2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5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0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nodeType="clickEffect" fill="hold">
                      <p:stCondLst>
                        <p:cond delay="indefinite"/>
                      </p:stCondLst>
                      <p:childTnLst>
                        <p:par>
                          <p:cTn id="2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5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ppendi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additional information will be helpful to the reader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it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tters of Support/Commitment (Grants Office will obtain any institutional lett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mple questionnaires, syllab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ome sponsors either do not allow appendix material or do not require reviewers to read anything that appears in an append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wast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6" dur="indefinite" restart="never" nodeType="tmRoot">
          <p:childTnLst>
            <p:seq>
              <p:cTn id="2587" dur="indefinite" nodeType="mainSeq">
                <p:childTnLst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nodeType="clickEffect" fill="hold">
                      <p:stCondLst>
                        <p:cond delay="indefinite"/>
                      </p:stCondLst>
                      <p:childTnLst>
                        <p:par>
                          <p:cTn id="2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2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7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2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7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Lett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tters of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think it’s a good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erred to in text, put in append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oes project fit with mission/goals of colle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sents type of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Letters of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idence of interest in project from particip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roject is funded they are ready with their con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they will con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y will participate at the time that you need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8" dur="indefinite" restart="never" nodeType="tmRoot">
          <p:childTnLst>
            <p:seq>
              <p:cTn id="2619" dur="indefinite" nodeType="mainSeq">
                <p:childTnLst>
                  <p:par>
                    <p:cTn id="2620" nodeType="clickEffect" fill="hold">
                      <p:stCondLst>
                        <p:cond delay="indefinite"/>
                      </p:stCondLst>
                      <p:childTnLst>
                        <p:par>
                          <p:cTn id="2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9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nodeType="clickEffect" fill="hold">
                      <p:stCondLst>
                        <p:cond delay="indefinite"/>
                      </p:stCondLst>
                      <p:childTnLst>
                        <p:par>
                          <p:cTn id="2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9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4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nodeType="clickEffect" fill="hold">
                      <p:stCondLst>
                        <p:cond delay="indefinite"/>
                      </p:stCondLst>
                      <p:childTnLst>
                        <p:par>
                          <p:cTn id="2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nodeType="clickEffect" fill="hold">
                      <p:stCondLst>
                        <p:cond delay="indefinite"/>
                      </p:stCondLst>
                      <p:childTnLst>
                        <p:par>
                          <p:cTn id="2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4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9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Grant vs. Contra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Gr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ject conceived by investig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supports or ass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rformer defines details and retains scientific free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maintains overs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n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ject conceived by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procures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exercises direction or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gency closely mon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ssurances/Authoriti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itle VI of Civil Right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tion 504 Rehab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itle 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ge Discrimination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tch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air Labor Standards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flict of Inte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isconduct in Sc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 to records - FO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PA Violating Facilities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lood Disaster Protection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ational Historic Preserv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ert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uthorized Organizational Representa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bby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barment, Suspension and Other Responsibility Mat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rug-Free Workpl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1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1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nodeType="clickEffect" fill="hold">
                      <p:stCondLst>
                        <p:cond delay="indefinite"/>
                      </p:stCondLst>
                      <p:childTnLst>
                        <p:par>
                          <p:cTn id="2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6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nodeType="clickEffect" fill="hold">
                      <p:stCondLst>
                        <p:cond delay="indefinite"/>
                      </p:stCondLst>
                      <p:childTnLst>
                        <p:par>
                          <p:cTn id="2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nodeType="clickEffect" fill="hold">
                      <p:stCondLst>
                        <p:cond delay="indefinite"/>
                      </p:stCondLst>
                      <p:childTnLst>
                        <p:par>
                          <p:cTn id="2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6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nodeType="clickEffect" fill="hold">
                      <p:stCondLst>
                        <p:cond delay="indefinite"/>
                      </p:stCondLst>
                      <p:childTnLst>
                        <p:par>
                          <p:cTn id="2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1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2" nodeType="clickEffect" fill="hold">
                      <p:stCondLst>
                        <p:cond delay="indefinite"/>
                      </p:stCondLst>
                      <p:childTnLst>
                        <p:par>
                          <p:cTn id="2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6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nodeType="clickEffect" fill="hold">
                      <p:stCondLst>
                        <p:cond delay="indefinite"/>
                      </p:stCondLst>
                      <p:childTnLst>
                        <p:par>
                          <p:cTn id="2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1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nodeType="clickEffect" fill="hold">
                      <p:stCondLst>
                        <p:cond delay="indefinite"/>
                      </p:stCondLst>
                      <p:childTnLst>
                        <p:par>
                          <p:cTn id="2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6" dur="500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1" dur="500"/>
                                        <p:tgtEl>
                                          <p:spTgt spid="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6" dur="500"/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nodeType="clickEffect" fill="hold">
                      <p:stCondLst>
                        <p:cond delay="indefinite"/>
                      </p:stCondLst>
                      <p:childTnLst>
                        <p:par>
                          <p:cTn id="2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nodeType="clickEffect" fill="hold">
                      <p:stCondLst>
                        <p:cond delay="indefinite"/>
                      </p:stCondLst>
                      <p:childTnLst>
                        <p:par>
                          <p:cTn id="2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nodeType="clickEffect" fill="hold">
                      <p:stCondLst>
                        <p:cond delay="indefinite"/>
                      </p:stCondLst>
                      <p:childTnLst>
                        <p:par>
                          <p:cTn id="2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nodeType="clickEffect" fill="hold">
                      <p:stCondLst>
                        <p:cond delay="indefinite"/>
                      </p:stCondLst>
                      <p:childTnLst>
                        <p:par>
                          <p:cTn id="2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nodeType="clickEffect" fill="hold">
                      <p:stCondLst>
                        <p:cond delay="indefinite"/>
                      </p:stCondLst>
                      <p:childTnLst>
                        <p:par>
                          <p:cTn id="2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o Signs on the Lin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you sign your own application as the “authorizing signatory”? 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y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ammy Rei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sign for Whitworth Colle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Object 11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3047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1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view Criter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2" name="Object 1028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5181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2" dur="indefinite" restart="never" nodeType="tmRoot">
          <p:childTnLst>
            <p:seq>
              <p:cTn id="2783" dur="indefinite" nodeType="mainSeq">
                <p:childTnLst>
                  <p:par>
                    <p:cTn id="2784" nodeType="clickEffect" fill="hold">
                      <p:stCondLst>
                        <p:cond delay="indefinite"/>
                      </p:stCondLst>
                      <p:childTnLst>
                        <p:par>
                          <p:cTn id="2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pplication Guidelines contain review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eer Review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nel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ff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ard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is OK to ask them not to send a proposal to a particular p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 is OK to recommend re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oints are assigned to sections, one weak section may limit the chances of an otherwise strong propos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0" dur="indefinite" restart="never" nodeType="tmRoot">
          <p:childTnLst>
            <p:seq>
              <p:cTn id="2791" dur="indefinite" nodeType="mainSeq">
                <p:childTnLst>
                  <p:par>
                    <p:cTn id="2792" nodeType="clickEffect" fill="hold">
                      <p:stCondLst>
                        <p:cond delay="indefinite"/>
                      </p:stCondLst>
                      <p:childTnLst>
                        <p:par>
                          <p:cTn id="2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nodeType="clickEffect" fill="hold">
                      <p:stCondLst>
                        <p:cond delay="indefinite"/>
                      </p:stCondLst>
                      <p:childTnLst>
                        <p:par>
                          <p:cTn id="2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1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nodeType="clickEffect" fill="hold">
                      <p:stCondLst>
                        <p:cond delay="indefinite"/>
                      </p:stCondLst>
                      <p:childTnLst>
                        <p:par>
                          <p:cTn id="2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1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6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nodeType="clickEffect" fill="hold">
                      <p:stCondLst>
                        <p:cond delay="indefinite"/>
                      </p:stCondLst>
                      <p:childTnLst>
                        <p:par>
                          <p:cTn id="2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1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nodeType="clickEffect" fill="hold">
                      <p:stCondLst>
                        <p:cond delay="indefinite"/>
                      </p:stCondLst>
                      <p:childTnLst>
                        <p:par>
                          <p:cTn id="2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nodeType="clickEffect" fill="hold">
                      <p:stCondLst>
                        <p:cond delay="indefinite"/>
                      </p:stCondLst>
                      <p:childTnLst>
                        <p:par>
                          <p:cTn id="2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1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Reviewer Friendly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Object 1028" descr=""/>
          <p:cNvPicPr/>
          <p:nvPr/>
        </p:nvPicPr>
        <p:blipFill>
          <a:blip r:embed="rId1"/>
          <a:stretch/>
        </p:blipFill>
        <p:spPr>
          <a:xfrm>
            <a:off x="3809880" y="3581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Readable Sty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ann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ke sure that all pages are not just solid 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bulleted i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graphics in methodology and needs s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headings and subheadings, bold and underline, no ital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ok at each introductory sentence of a paragraph, it is the most important part, it is all they may 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type faces with serifs, like Times, they are easier to 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not justif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2" dur="indefinite" restart="never" nodeType="tmRoot">
          <p:childTnLst>
            <p:seq>
              <p:cTn id="2833" dur="indefinite" nodeType="mainSeq">
                <p:childTnLst>
                  <p:par>
                    <p:cTn id="2834" nodeType="clickEffect" fill="hold">
                      <p:stCondLst>
                        <p:cond delay="indefinite"/>
                      </p:stCondLst>
                      <p:childTnLst>
                        <p:par>
                          <p:cTn id="2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nodeType="clickEffect" fill="hold">
                      <p:stCondLst>
                        <p:cond delay="indefinite"/>
                      </p:stCondLst>
                      <p:childTnLst>
                        <p:par>
                          <p:cTn id="2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3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8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nodeType="clickEffect" fill="hold">
                      <p:stCondLst>
                        <p:cond delay="indefinite"/>
                      </p:stCondLst>
                      <p:childTnLst>
                        <p:par>
                          <p:cTn id="2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3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8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3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8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3" dur="5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dit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fine balance between wordiness and brevity that equals cla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Object 4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676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diting your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fter you have finished your draf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it aside for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v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e someone else read it without taking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e them tell you what your project is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dit for clarity and concis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jarg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first per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4" dur="indefinite" restart="never" nodeType="tmRoot">
          <p:childTnLst>
            <p:seq>
              <p:cTn id="2875" dur="indefinite" nodeType="mainSeq">
                <p:childTnLst>
                  <p:par>
                    <p:cTn id="2876" nodeType="clickEffect" fill="hold">
                      <p:stCondLst>
                        <p:cond delay="indefinite"/>
                      </p:stCondLst>
                      <p:childTnLst>
                        <p:par>
                          <p:cTn id="2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nodeType="clickEffect" fill="hold">
                      <p:stCondLst>
                        <p:cond delay="indefinite"/>
                      </p:stCondLst>
                      <p:childTnLst>
                        <p:par>
                          <p:cTn id="2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5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nodeType="clickEffect" fill="hold">
                      <p:stCondLst>
                        <p:cond delay="indefinite"/>
                      </p:stCondLst>
                      <p:childTnLst>
                        <p:par>
                          <p:cTn id="2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0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nodeType="clickEffect" fill="hold">
                      <p:stCondLst>
                        <p:cond delay="indefinite"/>
                      </p:stCondLst>
                      <p:childTnLst>
                        <p:par>
                          <p:cTn id="2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5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6" nodeType="clickEffect" fill="hold">
                      <p:stCondLst>
                        <p:cond delay="indefinite"/>
                      </p:stCondLst>
                      <p:childTnLst>
                        <p:par>
                          <p:cTn id="2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0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nodeType="clickEffect" fill="hold">
                      <p:stCondLst>
                        <p:cond delay="indefinite"/>
                      </p:stCondLst>
                      <p:childTnLst>
                        <p:par>
                          <p:cTn id="2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5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nodeType="clickEffect" fill="hold">
                      <p:stCondLst>
                        <p:cond delay="indefinite"/>
                      </p:stCondLst>
                      <p:childTnLst>
                        <p:par>
                          <p:cTn id="2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0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nodeType="clickEffect" fill="hold">
                      <p:stCondLst>
                        <p:cond delay="indefinite"/>
                      </p:stCondLst>
                      <p:childTnLst>
                        <p:par>
                          <p:cTn id="2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5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riting in Plain Englis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nt Writing is a form of technical 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t sentences in logical sequ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action ver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ver write in first per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lists when you have several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the active v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oid “to b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ject fir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parallel co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oid noun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 on a “which” h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oid openers with There is, There are, and It is - try “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7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2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7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2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nodeType="clickEffect" fill="hold">
                      <p:stCondLst>
                        <p:cond delay="indefinite"/>
                      </p:stCondLst>
                      <p:childTnLst>
                        <p:par>
                          <p:cTn id="2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nodeType="clickEffect" fill="hold">
                      <p:stCondLst>
                        <p:cond delay="indefinite"/>
                      </p:stCondLst>
                      <p:childTnLst>
                        <p:par>
                          <p:cTn id="2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nodeType="clickEffect" fill="hold">
                      <p:stCondLst>
                        <p:cond delay="indefinite"/>
                      </p:stCondLst>
                      <p:childTnLst>
                        <p:par>
                          <p:cTn id="2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nodeType="clickEffect" fill="hold">
                      <p:stCondLst>
                        <p:cond delay="indefinite"/>
                      </p:stCondLst>
                      <p:childTnLst>
                        <p:par>
                          <p:cTn id="2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nodeType="clickEffect" fill="hold">
                      <p:stCondLst>
                        <p:cond delay="indefinite"/>
                      </p:stCondLst>
                      <p:childTnLst>
                        <p:par>
                          <p:cTn id="2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Submitting your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Object 4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213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ypes of Gra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urricul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llow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deral Laboratory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nts for PUI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Last Minu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ue Date: “received by” or “postmark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can’t FedEx to a P. O. Bo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sure you have the correc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Grants Office will facilitate copying and mailing, provided the grant is in one day before it is d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Very Last Minu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A crisis on your part does not constitute a  crisis on my p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Object 4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58128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ormatting and Typing Checkli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margins, type size and spacing as reque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te pa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here to page lim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dress all sections of guidelines and review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dress review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ke sure the budget bal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bibliography 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lete all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read/spell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ck duplication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8" dur="indefinite" restart="never" nodeType="tmRoot">
          <p:childTnLst>
            <p:seq>
              <p:cTn id="2979" dur="indefinite" nodeType="mainSeq">
                <p:childTnLst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4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nodeType="clickEffect" fill="hold">
                      <p:stCondLst>
                        <p:cond delay="indefinite"/>
                      </p:stCondLst>
                      <p:childTnLst>
                        <p:par>
                          <p:cTn id="2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9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nodeType="clickEffect" fill="hold">
                      <p:stCondLst>
                        <p:cond delay="indefinite"/>
                      </p:stCondLst>
                      <p:childTnLst>
                        <p:par>
                          <p:cTn id="2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4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nodeType="clickEffect" fill="hold">
                      <p:stCondLst>
                        <p:cond delay="indefinite"/>
                      </p:stCondLst>
                      <p:childTnLst>
                        <p:par>
                          <p:cTn id="2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9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nodeType="clickEffect" fill="hold">
                      <p:stCondLst>
                        <p:cond delay="indefinite"/>
                      </p:stCondLst>
                      <p:childTnLst>
                        <p:par>
                          <p:cTn id="3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nodeType="clickEffect" fill="hold">
                      <p:stCondLst>
                        <p:cond delay="indefinite"/>
                      </p:stCondLst>
                      <p:childTnLst>
                        <p:par>
                          <p:cTn id="3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9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nodeType="clickEffect" fill="hold">
                      <p:stCondLst>
                        <p:cond delay="indefinite"/>
                      </p:stCondLst>
                      <p:childTnLst>
                        <p:par>
                          <p:cTn id="3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4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nodeType="clickEffect" fill="hold">
                      <p:stCondLst>
                        <p:cond delay="indefinite"/>
                      </p:stCondLst>
                      <p:childTnLst>
                        <p:par>
                          <p:cTn id="3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9" dur="5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age Limi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 you go beyond th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Comic Sans MS"/>
              </a:rPr>
              <a:t>NO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0" dur="indefinite" restart="never" nodeType="tmRoot">
          <p:childTnLst>
            <p:seq>
              <p:cTn id="3031" dur="indefinite" nodeType="mainSeq">
                <p:childTnLst>
                  <p:par>
                    <p:cTn id="3032" nodeType="clickEffect" fill="hold">
                      <p:stCondLst>
                        <p:cond delay="indefinite"/>
                      </p:stCondLst>
                      <p:childTnLst>
                        <p:par>
                          <p:cTn id="3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nodeType="clickEffect" fill="hold">
                      <p:stCondLst>
                        <p:cond delay="indefinite"/>
                      </p:stCondLst>
                      <p:childTnLst>
                        <p:par>
                          <p:cTn id="3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Noland’s La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ne Hour before the grant needs to go out, the copier will brea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Leave enough ti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Object 4" descr=""/>
          <p:cNvPicPr/>
          <p:nvPr/>
        </p:nvPicPr>
        <p:blipFill>
          <a:blip r:embed="rId1"/>
          <a:stretch/>
        </p:blipFill>
        <p:spPr>
          <a:xfrm>
            <a:off x="4876920" y="0"/>
            <a:ext cx="3809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nodeType="clickEffect" fill="hold">
                      <p:stCondLst>
                        <p:cond delay="indefinite"/>
                      </p:stCondLst>
                      <p:childTnLst>
                        <p:par>
                          <p:cTn id="3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nodeType="clickEffect" fill="hold">
                      <p:stCondLst>
                        <p:cond delay="indefinite"/>
                      </p:stCondLst>
                      <p:childTnLst>
                        <p:par>
                          <p:cTn id="3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nodeType="clickEffect" fill="hold">
                      <p:stCondLst>
                        <p:cond delay="indefinite"/>
                      </p:stCondLst>
                      <p:childTnLst>
                        <p:par>
                          <p:cTn id="3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8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Final Docu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able, neat, easy to han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oid fancy covers or a slick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 sure sections are easily identifiable and table of contents is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quired number of co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cessary signatures in blue 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2" dur="indefinite" restart="never" nodeType="tmRoot">
          <p:childTnLst>
            <p:seq>
              <p:cTn id="3073" dur="indefinite" nodeType="mainSeq">
                <p:childTnLst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8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nodeType="clickEffect" fill="hold">
                      <p:stCondLst>
                        <p:cond delay="indefinite"/>
                      </p:stCondLst>
                      <p:childTnLst>
                        <p:par>
                          <p:cTn id="3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3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nodeType="clickEffect" fill="hold">
                      <p:stCondLst>
                        <p:cond delay="indefinite"/>
                      </p:stCondLst>
                      <p:childTnLst>
                        <p:par>
                          <p:cTn id="3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nodeType="clickEffect" fill="hold">
                      <p:stCondLst>
                        <p:cond delay="indefinite"/>
                      </p:stCondLst>
                      <p:childTnLst>
                        <p:par>
                          <p:cTn id="3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3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nodeType="clickEffect" fill="hold">
                      <p:stCondLst>
                        <p:cond delay="indefinite"/>
                      </p:stCondLst>
                      <p:childTnLst>
                        <p:par>
                          <p:cTn id="3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8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14 Reasons Why Proposals Fa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adline not m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uidelines not follo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hing intrigu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d not meet prio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 comple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or literatur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eared beyond capacity of 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ology we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realistic bud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st greater than bene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ghly partis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orly wr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chanical de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9" dur="indefinite" restart="never" nodeType="tmRoot">
          <p:childTnLst>
            <p:seq>
              <p:cTn id="3100" dur="indefinite" nodeType="mainSeq">
                <p:childTnLst>
                  <p:par>
                    <p:cTn id="3101" nodeType="clickEffect" fill="hold">
                      <p:stCondLst>
                        <p:cond delay="indefinite"/>
                      </p:stCondLst>
                      <p:childTnLst>
                        <p:par>
                          <p:cTn id="3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5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nodeType="clickEffect" fill="hold">
                      <p:stCondLst>
                        <p:cond delay="indefinite"/>
                      </p:stCondLst>
                      <p:childTnLst>
                        <p:par>
                          <p:cTn id="3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nodeType="clickEffect" fill="hold">
                      <p:stCondLst>
                        <p:cond delay="indefinite"/>
                      </p:stCondLst>
                      <p:childTnLst>
                        <p:par>
                          <p:cTn id="3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5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nodeType="clickEffect" fill="hold">
                      <p:stCondLst>
                        <p:cond delay="indefinite"/>
                      </p:stCondLst>
                      <p:childTnLst>
                        <p:par>
                          <p:cTn id="3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0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nodeType="clickEffect" fill="hold">
                      <p:stCondLst>
                        <p:cond delay="indefinite"/>
                      </p:stCondLst>
                      <p:childTnLst>
                        <p:par>
                          <p:cTn id="3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5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nodeType="clickEffect" fill="hold">
                      <p:stCondLst>
                        <p:cond delay="indefinite"/>
                      </p:stCondLst>
                      <p:childTnLst>
                        <p:par>
                          <p:cTn id="3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0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nodeType="clickEffect" fill="hold">
                      <p:stCondLst>
                        <p:cond delay="indefinite"/>
                      </p:stCondLst>
                      <p:childTnLst>
                        <p:par>
                          <p:cTn id="3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0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nodeType="clickEffect" fill="hold">
                      <p:stCondLst>
                        <p:cond delay="indefinite"/>
                      </p:stCondLst>
                      <p:childTnLst>
                        <p:par>
                          <p:cTn id="3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0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1" nodeType="clickEffect" fill="hold">
                      <p:stCondLst>
                        <p:cond delay="indefinite"/>
                      </p:stCondLst>
                      <p:childTnLst>
                        <p:par>
                          <p:cTn id="3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nodeType="clickEffect" fill="hold">
                      <p:stCondLst>
                        <p:cond delay="indefinite"/>
                      </p:stCondLst>
                      <p:childTnLst>
                        <p:par>
                          <p:cTn id="3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0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nodeType="clickEffect" fill="hold">
                      <p:stCondLst>
                        <p:cond delay="indefinite"/>
                      </p:stCondLst>
                      <p:childTnLst>
                        <p:par>
                          <p:cTn id="3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5" dur="5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oge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s a Team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as the 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Academic Grant 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Accounting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Object 5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657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memb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l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Guide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Program Offi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6" dur="indefinite" restart="never" nodeType="tmRoot">
          <p:childTnLst>
            <p:seq>
              <p:cTn id="3167" dur="indefinite" nodeType="mainSeq">
                <p:childTnLst>
                  <p:par>
                    <p:cTn id="3168" nodeType="clickEffect" fill="hold">
                      <p:stCondLst>
                        <p:cond delay="indefinite"/>
                      </p:stCondLst>
                      <p:childTnLst>
                        <p:par>
                          <p:cTn id="3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2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nodeType="clickEffect" fill="hold">
                      <p:stCondLst>
                        <p:cond delay="indefinite"/>
                      </p:stCondLst>
                      <p:childTnLst>
                        <p:par>
                          <p:cTn id="3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7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nodeType="clickEffect" fill="hold">
                      <p:stCondLst>
                        <p:cond delay="indefinite"/>
                      </p:stCondLst>
                      <p:childTnLst>
                        <p:par>
                          <p:cTn id="3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2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7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nodeType="clickEffect" fill="hold">
                      <p:stCondLst>
                        <p:cond delay="indefinite"/>
                      </p:stCondLst>
                      <p:childTnLst>
                        <p:par>
                          <p:cTn id="3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2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nodeType="clickEffect" fill="hold">
                      <p:stCondLst>
                        <p:cond delay="indefinite"/>
                      </p:stCondLst>
                      <p:childTnLst>
                        <p:par>
                          <p:cTn id="3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7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Awar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ce you receive your award notice, the Grants Office will work with you to set up your account with the business off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though the college is legally responsible to the sponsor as the actual recipient of a grant or contract, the PI is held accountable for the proper fiscal management and conduct of the pro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 expenditures must be approved by the Grants Off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are responsible for meeting all reporting deadlines for programmatic repor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Object 4" descr=""/>
          <p:cNvPicPr/>
          <p:nvPr/>
        </p:nvPicPr>
        <p:blipFill>
          <a:blip r:embed="rId1"/>
          <a:stretch/>
        </p:blipFill>
        <p:spPr>
          <a:xfrm flipH="1" rot="10800000">
            <a:off x="7315200" y="4495320"/>
            <a:ext cx="182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8" dur="indefinite" restart="never" nodeType="tmRoot">
          <p:childTnLst>
            <p:seq>
              <p:cTn id="3199" dur="indefinite" nodeType="mainSeq">
                <p:childTnLst>
                  <p:par>
                    <p:cTn id="3200" nodeType="clickEffect" fill="hold">
                      <p:stCondLst>
                        <p:cond delay="indefinite"/>
                      </p:stCondLst>
                      <p:childTnLst>
                        <p:par>
                          <p:cTn id="3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4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nodeType="clickEffect" fill="hold">
                      <p:stCondLst>
                        <p:cond delay="indefinite"/>
                      </p:stCondLst>
                      <p:childTnLst>
                        <p:par>
                          <p:cTn id="3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9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nodeType="clickEffect" fill="hold">
                      <p:stCondLst>
                        <p:cond delay="indefinite"/>
                      </p:stCondLst>
                      <p:childTnLst>
                        <p:par>
                          <p:cTn id="3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nodeType="clickEffect" fill="hold">
                      <p:stCondLst>
                        <p:cond delay="indefinite"/>
                      </p:stCondLst>
                      <p:childTnLst>
                        <p:par>
                          <p:cTn id="3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9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Getting start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rt out small and build a track re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itutional gr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pplemental grants - NSF (50% funding rat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investigator programs (w/i 5 y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petition i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cycle your Rejected Propos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ccess means having one in three grants fu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rejected proposal does not always mean the idea was rej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btain reviewer com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ll the program offi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write, revise, resub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Object 4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0" dur="indefinite" restart="never" nodeType="tmRoot">
          <p:childTnLst>
            <p:seq>
              <p:cTn id="3221" dur="indefinite" nodeType="mainSeq">
                <p:childTnLst>
                  <p:par>
                    <p:cTn id="3222" nodeType="clickEffect" fill="hold">
                      <p:stCondLst>
                        <p:cond delay="indefinite"/>
                      </p:stCondLst>
                      <p:childTnLst>
                        <p:par>
                          <p:cTn id="3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1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6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nodeType="clickEffect" fill="hold">
                      <p:stCondLst>
                        <p:cond delay="indefinite"/>
                      </p:stCondLst>
                      <p:childTnLst>
                        <p:par>
                          <p:cTn id="3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nodeType="clickEffect" fill="hold">
                      <p:stCondLst>
                        <p:cond delay="indefinite"/>
                      </p:stCondLst>
                      <p:childTnLst>
                        <p:par>
                          <p:cTn id="3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6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Fatal Mistak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3" name="Object 4" descr=""/>
          <p:cNvPicPr/>
          <p:nvPr/>
        </p:nvPicPr>
        <p:blipFill>
          <a:blip r:embed="rId1"/>
          <a:stretch/>
        </p:blipFill>
        <p:spPr>
          <a:xfrm>
            <a:off x="3809880" y="3581280"/>
            <a:ext cx="3962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Biggest Mistake of Al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s to not write a proposal.  It is absolutely fa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o - Go ahead and “Buy a Ticket!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7" dur="indefinite" restart="never" nodeType="tmRoot">
          <p:childTnLst>
            <p:seq>
              <p:cTn id="3248" dur="indefinite" nodeType="mainSeq">
                <p:childTnLst>
                  <p:par>
                    <p:cTn id="3249" nodeType="clickEffect" fill="hold">
                      <p:stCondLst>
                        <p:cond delay="indefinite"/>
                      </p:stCondLst>
                      <p:childTnLst>
                        <p:par>
                          <p:cTn id="3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3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4" nodeType="clickEffect" fill="hold">
                      <p:stCondLst>
                        <p:cond delay="indefinite"/>
                      </p:stCondLst>
                      <p:childTnLst>
                        <p:par>
                          <p:cTn id="3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8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447" name="Object 3" descr=""/>
          <p:cNvPicPr/>
          <p:nvPr/>
        </p:nvPicPr>
        <p:blipFill>
          <a:blip r:embed="rId1"/>
          <a:stretch/>
        </p:blipFill>
        <p:spPr>
          <a:xfrm>
            <a:off x="2354400" y="2209680"/>
            <a:ext cx="4435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How Whitworth Can Help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cademic Grant Writer works on both institutional grants and with individual fac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 submitted grants must be submitted through Academic Affai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formation, facilitation, interpreting guidelines, editing, copying, mai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Qualities of Effective Grant Writ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ality of the idea and its appeal to the funding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bility to communicate clearly and concis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good 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good institutional 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emble a winning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ch the idea to a spon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the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them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act the spon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n in de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velop the budget from the detailed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 the guidelines again with narrative in mi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 persistent - revise and resubm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d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 idea is something that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ists in your m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r task is to present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a in a fundable propos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e a vague idea and identi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specific problem or need associ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ith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Object 4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523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ocused Freewrit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2529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inding a Funding Sour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 an appointment to discuss your idea with the Academic Grant Wri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rants office will do customized searches on the IRIS database, the Opportunity Alert, Fedix or from other resour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y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 the Grants Bulletin you receive on em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at keeps us from doing grant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ear of rej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a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only one proposal in 5 is turned down because the idea wasn’t good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a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A rejected proposal is worth about $10,000 of free advice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a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the success rate is higher for proposals turned in a second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Realit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- the success rate on a third submission is almost 1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5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59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s it the Right Gran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Fed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e you elig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you meet mat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any fund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much mone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ge to meet guideli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itutional Advan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ograph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o do they fun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ng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 of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erest, but no g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nge to meet priorit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they have staff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ore Questions to As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es the funding agency share your goa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 funding agency interested in the same popul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s the funding agency funded projects similar to you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ve they made awards to institutions similar to ou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es the agency require matc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will the award be mad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riting a Grant is Like Playing a Gam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Object 4" descr=""/>
          <p:cNvPicPr/>
          <p:nvPr/>
        </p:nvPicPr>
        <p:blipFill>
          <a:blip r:embed="rId1"/>
          <a:stretch/>
        </p:blipFill>
        <p:spPr>
          <a:xfrm>
            <a:off x="2689200" y="2362320"/>
            <a:ext cx="37641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You have to Play by the Ru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ET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guidel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READ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e guidel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FOLLOW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guidel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ollowing the Guideli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must follow the guidelines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exact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pond to all 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here to any format restri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pics must be covered in order presented in guidelin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headings that correspond to the guideli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ypes of Gra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cept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-4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ighl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-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view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vited to submit full propo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ll 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om 10-40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tach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cific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riculum Propo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r task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ulty invol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visory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Next Step after Reading the Guideli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Object 1027" descr=""/>
          <p:cNvPicPr/>
          <p:nvPr/>
        </p:nvPicPr>
        <p:blipFill>
          <a:blip r:embed="rId1"/>
          <a:stretch/>
        </p:blipFill>
        <p:spPr>
          <a:xfrm>
            <a:off x="3456000" y="2362320"/>
            <a:ext cx="223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all the Program Officer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The major variable in getting proposals funded is contact with the program officer prior to submission of a propos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Object 4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2360520" cy="3124440"/>
          </a:xfrm>
          <a:prstGeom prst="rect">
            <a:avLst/>
          </a:prstGeom>
          <a:ln w="3168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f you don’t want to call..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1828800" y="25146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ICE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ings to Consid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You’re off the hook - in order to have a conflict of interest, you gotta have an interest in the first pla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Object 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Not Enough Tim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ing is like an Olympic ev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eds constant practi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everyday at a regular time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place. 20 min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ou don’t sit there every da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day that it would ha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e well - you won’t be t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6553080" y="380988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Comic Sans MS"/>
              </a:rPr>
              <a:t>Technical Issues to Consider Before you Write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flict of Interest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uman Subjec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ue date - received or postma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ge li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a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mber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gin requi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pe requi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 you need lett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p Projects - Gant Ch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ppropriate Writing Sty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e to the funding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e in the correct language of the field - but no jarg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Nev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rite in 1st per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5 W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e to in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use language that is bi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e to persu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ata from reputable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curre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ablish cred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unsubstantiated opin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Grant is not an Id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a50021"/>
                </a:solidFill>
                <a:latin typeface="Comic Sans MS"/>
              </a:rPr>
              <a:t>It is a Pl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arts of a Grant Applic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over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able of 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bs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blem or Needs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als and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ality of Key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4190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se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ferences C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Budget &amp; Nar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it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ppe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Forms, Certifications and Assuranc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y Work with the Grant Writer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 will have less to 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r grant will be more competit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on technical errors may be avoi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our eye will read what is written and your brain will translate it to what  you meant and you will miss errors when editing and proof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arts of a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6" name="Object 4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Tit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title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should covey what the project is ab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is often used to assign review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wo Examp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ulturating Christianity: Christian Culture and Human Responsibility Imaged in the Human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eloping a Case Study Model for Interdisciplinary Humanities Curriculum in the Context of a Small Liberal Arts Colle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evelop a Title for your Gra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Object 8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56390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bstra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ould be able to stand 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t may be all the reviewers 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blishable q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ear, concise, one page, singl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oid 1st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 not refer to proposal in the 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ver all key elements in 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Comic Sans MS"/>
              </a:rPr>
              <a:t>Just Do It!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2355840" y="1981080"/>
            <a:ext cx="4432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Needs or Problem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In God we trust in needs statements …all others bring dat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Task You Fa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itically important, and often poorly writ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vince the funding source that you understand the need and can help them solve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the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te 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llustrate with graphs and ch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monstrate that the need is pr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at the problem is an important problem to be sol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your project will address the problem and what gaps will it fi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Problem Statement: Framing the Ne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assume that no one else has ever thought of your id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blem Statem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stablishes a framework for the project’s goals, objectives, methods,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ide a thorough explanation of your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st assum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ticipate questions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orporate propos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gin with a framing statement then provide 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Good Problem Statement Should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how that you understand the prob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monstrate that this is an important problem to solve, not only at Whitworth, but regionally and nationally as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early describe the aspects of the problem that your project will address, and what gaps this will f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 th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oretical or conceptual basis for your project and your knowledge of the issues surrounding your proposed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lude statistical data, if appropri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monstrate that your approach is creative or innov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 how this project fits into the already existing goals of the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Questions to Ask, Things to Kn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significant needs are you trying to mee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current status of the need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ill this project help meet the ne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really needs to be don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services will be delivered? To whom? By who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it possible to make some impact on the proble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gaps exist in the knowledge ba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does the literature say about the significance of the problem, at a local, state, regional, national leve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s there evidence that this project will lead to other significant stud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previous work has been done to meet this need? Was it effectiv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will be the impact of this stud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ildren are exhibiting violent and disruptive behavio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heck your Assump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1"/>
          <a:stretch/>
        </p:blipFill>
        <p:spPr>
          <a:xfrm>
            <a:off x="3448080" y="2057400"/>
            <a:ext cx="2247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mprove this statement by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ildren are exhibiting violent and disruptive behavi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arifying the assump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ticipating the ques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unded Problem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The harsh truth is that growing numbers of children in America are exhibiting violent and disruptive behavior or externalizing behavior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so referred to as antisocial behavior, challenging behavior, defiance, noncompliance, aggressive behavior, acting-out, etc.) beyond the occasional minor incident typical of most children during the normal course of development.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uch behavior has become one of the most pressing issues in school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issecting a Problem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0099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Comic Sans MS"/>
              </a:rPr>
              <a:t>The first sentence is th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0099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n clarify the problem by defining both the behavior and what is norm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0099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States that this is a pressing n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ich is hopefully the need the funder is addr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Keys to Succes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Innovation and Creativity is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oking for new solutions to ol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o you create creativit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alling the Program Officer is the most important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85% of all successful grant seekers have had contact with the program offi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4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03080" cy="134136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5" descr=""/>
          <p:cNvPicPr/>
          <p:nvPr/>
        </p:nvPicPr>
        <p:blipFill>
          <a:blip r:embed="rId2"/>
          <a:stretch/>
        </p:blipFill>
        <p:spPr>
          <a:xfrm flipH="1" rot="10800000">
            <a:off x="838080" y="4343400"/>
            <a:ext cx="6858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ocumenting the Problem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oted in factua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st document that your initial statement is corre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how you know what’s going on in the field, what the basic issues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national and loc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howing that the local problem is also a national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ocument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te current 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-10 key 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-2 of works should be y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y inform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 -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cus 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relevant graphs and ch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ords that paint a pi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is still not a single traffic light the length and breadth of Pend Oreille County.  This is the other Pacific Northwest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Object 4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2210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Comic Sans MS"/>
              </a:rPr>
              <a:t>What was used to prove need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#of students and teachers that are attacked each mon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#number who worry about 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#eligible for special services with higher deportment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mpact of behavior on individu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st-school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rime victim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pons in sch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ghting and other assa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eelings of 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reases in disruptive behavior over last 2 years in local sch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pact of behavior on school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hat do key informants think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How would you document your problem statemen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0" name="Object 4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rganizing and Writing the Needs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 from the foundational stat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 your case with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llow the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llow the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 succinct and persua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ll your story and build your case drawing to a logical conclusion that leads into the project goals and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nding a Needs Stat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phasize the significance of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will be the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mpact will it 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the impact conti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might present you project as a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ways address the priorities of the funding agenc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ecast the usefulness and importance of the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920" y="2590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Goals and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The “What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Object 8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27432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ppropriotic (uh PRO pree ah tick): adj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f or pertaining to the penchant to overuse the term “appropriate” in a proposal when the guidelines call for measurable objectives and outcomes and the principal investigator hasn’t the foggiest idea what to do.  It produces such sentences as: “the project director will take appropriate measures to seek appropriate levels of support for the delivery of appropriate services.”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Go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th the goals and objectives should flow logically from the statement of ne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als convey the ultimate intent of the proposed project, the overarching philosophy,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A CONCISE STATEMENT OF THE WHOLE PURPOSE OF THE PROJECT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opening statement of this section should begin with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“the goal of this project is to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1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grant process is never wast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n’t get a grant unless you write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fessionally fulfi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quires you to focus your thou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med with reviewers comments the second proposal is always stro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Well Thought-Out Project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e or two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ral objectives related to the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y methodological steps to achieve each obj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bjecv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objectives state the essence of the proposed work in terms of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be accomplis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eak the goal down to specific measurable pieces, the outcomes of which can be measured to determine actual accomplish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jectives discuss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oing to do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y will do it, and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t will be measu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cuss desired end results of the pro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 how those results will be accomplis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y are action oriented and often begin with a ve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range them in priority or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a research proposal the objectives are the hypotheses, they are less specific, but reinforce that the project is conceptually sou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s this an Objectiv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our goal is getting people from Indiana and Kentucky to interact to improve the economy.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goal)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construct a bridge over the Ohio Ri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improve trade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what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ithin five years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when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etween residents of southern Indiana and northern Kentucky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who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s measured by each state’s economic development indicators related to interstate commerce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(measure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Research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ration of new knowled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ypothesis or research ques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rally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termine the impact of sheep ranching on the wild puma population in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the needs of the farmers in preventing loss of sheep due to puma pre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ulate ranching guidelines to meet the needs of the farmer and the wild p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riting Goals and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Object 4" descr=""/>
          <p:cNvPicPr/>
          <p:nvPr/>
        </p:nvPicPr>
        <p:blipFill>
          <a:blip r:embed="rId1"/>
          <a:stretch/>
        </p:blipFill>
        <p:spPr>
          <a:xfrm>
            <a:off x="2209680" y="3429000"/>
            <a:ext cx="4648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ethodology: The “How</a:t>
            </a: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6" name="Object 3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35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lan of Action, Project Design, or Method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ually, this is the area allotted the most poi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ften poorly written or missing al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:5 proposals are turned down because the methodology is uns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819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ethodology, Project Design, Plan of A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ften the most detailed and lengthy 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specific activities will allow you to meet you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sk oriented, specific, detai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sential that you demonstrate all the steps necessary to complete project with each flowing logically from the previous to the n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Questions for Method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lk the reader through your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cribe the activities as they relate to the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velop a time line and/or and organizational ch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will the activities be condu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lo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faciliti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nodeType="clickEffect" fill="hold">
                      <p:stCondLst>
                        <p:cond delay="indefinite"/>
                      </p:stCondLst>
                      <p:childTnLst>
                        <p:par>
                          <p:cTn id="1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nodeType="clickEffect" fill="hold">
                      <p:stCondLst>
                        <p:cond delay="indefinite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o Gives Money and Why</a:t>
            </a: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Fed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and takes away based on political ag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y tell you what to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ewer $ means fewer submission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ccess rate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low review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ttle $ for basic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ten good for projects w/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utsource work when budgets decr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- even when they have money they won’t tell you about 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ethodology in a Research Proposal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methodology is new or unique explain why it is better than that previously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cify research design and why it was chos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lude descriptions of variables and their relationshi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all import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ide descriptions of data sources including subjects, how they will be selected, the size of subject pool, and the size of the sa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be all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lude pilot instruments and data when pos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ep-by-step work 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nodeType="clickEffect" fill="hold">
                      <p:stCondLst>
                        <p:cond delay="indefinite"/>
                      </p:stCondLst>
                      <p:childTnLst>
                        <p:par>
                          <p:cTn id="1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nodeType="clickEffect" fill="hold">
                      <p:stCondLst>
                        <p:cond delay="indefinite"/>
                      </p:stCondLst>
                      <p:childTnLst>
                        <p:par>
                          <p:cTn id="1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7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Quality of Key Personn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99" name="Object 3" descr=""/>
          <p:cNvPicPr/>
          <p:nvPr/>
        </p:nvPicPr>
        <p:blipFill>
          <a:blip r:embed="rId1"/>
          <a:stretch/>
        </p:blipFill>
        <p:spPr>
          <a:xfrm>
            <a:off x="4051440" y="2133720"/>
            <a:ext cx="1039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Comic Sans MS"/>
              </a:rPr>
              <a:t>Who Are these People, and Why Should we Give them our Money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where you demonstrate that you are th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ight person to do this pro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 not simply say “See resume.”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vince the funding agency the you are capable of accomplishing what you say you can accompli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ight the expertise of all key perso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clude experience you have had managing other pro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ak qualifications or inexperience in some cases can be compensated for by adding appropriate consultants.  Include why you need consultants and how you chose th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you don’t identify a person, summarize the job description or qualifications required and how you will find that p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dicate responsibilities of all, and level of eff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4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9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n Key Personnel Section Address..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ublications in the area of the proposal or related a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idence of relevant training, certification, or clear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published papers, conference presentations in the 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nodeType="clickEffect" fill="hold">
                      <p:stCondLst>
                        <p:cond delay="indefinite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nstitution’s Qualif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should the award be made to your institutio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Grants Office will help you with the information in this s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ighlight institution’s capabilities, relation of the project to mi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cilities, support, library, computer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val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d it go up or dow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ere they hap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7010280" y="304920"/>
            <a:ext cx="18003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val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mative evaluation of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he project will be evaluated as it prog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mmative evaluation of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he project will be evaluated when it is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nodeType="clickEffect" fill="hold">
                      <p:stCondLst>
                        <p:cond delay="indefinite"/>
                      </p:stCondLst>
                      <p:childTnLst>
                        <p:par>
                          <p:cTn id="1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valuation desig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lanation of the metho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was the impa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ptions of record keeping, surveys, and assessment instr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what would count as evidence that your project succeeded or fail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ou where someone else who wanted to replicate the project what would you need to know to determine if you would bene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form should that information take to be sufficiently credible or usefu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nodeType="clickEffect" fill="hold">
                      <p:stCondLst>
                        <p:cond delay="indefinite"/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Evaluation Design - Questions To As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valuation for Faculty Development Worksho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rm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o participa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they organized and staffed as plann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materials availa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they of high quali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as the full range of topics actually cover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o few, too man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lem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difica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im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umm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d faculty change their instructional practic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d this vary by teacher or student characteristic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d faculty use informa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obstacles prevented implementing chan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changes made in the curriculum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ere students more interested in class wor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4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4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delay="indefinite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4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4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delay="indefinite"/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9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4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Outside Eval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re a third pa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one well known in the 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one you quoted in the needs s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dentify evaluators before submitting proposal and include their resume and a letter of commi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y may often contribute to the writing of the evaluation s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indefinite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rivate Giv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Private Fou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out of goodness of their 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vance a particular c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$10 billion annu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ly $1 billion to univers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ten fund geograph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rpo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for enlightened self-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quality of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ployment p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rov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w helps you do great thin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A Good Evaluation Plan</a:t>
            </a: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vers both process and 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lls who will perform the evaluation and how they were chos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fines the criteria by which the program will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valuates the achievement of each obj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s data gathering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plains assessment instruments, questionnaires, and other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s data analysis 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lates evaluation findings to a plan for program impro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ribes evaluation reports to be produ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2" dur="indefinite" restart="never" nodeType="tmRoot">
          <p:childTnLst>
            <p:seq>
              <p:cTn id="2023" dur="indefinite" nodeType="mainSeq">
                <p:childTnLst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8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nodeType="clickEffect" fill="hold">
                      <p:stCondLst>
                        <p:cond delay="indefinite"/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nodeType="clickEffect" fill="hold">
                      <p:stCondLst>
                        <p:cond delay="indefinite"/>
                      </p:stCondLst>
                      <p:childTnLst>
                        <p:par>
                          <p:cTn id="2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8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ntin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happens when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oney runs o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4920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Project Contin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ding agencies want to have a lasting impact and they want to know how that will happ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lude how you propose to continue the project beyond the funding that you are requesting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y include a ‘good faith” statement from the instit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monstrate Continuation with budget con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will this project become part of an established progra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it generate fees to sustain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it become part of the institutional budg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it part of an on-going research endeav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5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5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issemin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Object 1028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54104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issemin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by which your project is reported to other professionals and the publ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ortant to the funding agenc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times presented as the concluding thoughts of the project pl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will you make the research results available to oth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there be workshops, publications, or conferenc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you are producing materials how will they be advertised, marketed, and distribut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b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1" dur="indefinite" restart="never" nodeType="tmRoot">
          <p:childTnLst>
            <p:seq>
              <p:cTn id="2112" dur="indefinite" nodeType="mainSeq">
                <p:childTnLst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2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nodeType="clickEffect" fill="hold">
                      <p:stCondLst>
                        <p:cond delay="indefinite"/>
                      </p:stCondLst>
                      <p:childTnLst>
                        <p:par>
                          <p:cTn id="2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7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nodeType="clickEffect" fill="hold">
                      <p:stCondLst>
                        <p:cond delay="indefinite"/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7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issemination Plan Should Includ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ich results will be repor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udiences will be rea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the results or products will be disseminated, e.g., computer networks, video tapes, conferences, professional journals, or publication of books, chapters, or monograph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8" dur="indefinite" restart="never" nodeType="tmRoot">
          <p:childTnLst>
            <p:seq>
              <p:cTn id="2149" dur="indefinite" nodeType="mainSeq">
                <p:childTnLst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he Budg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o the Math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Object 4" descr=""/>
          <p:cNvPicPr/>
          <p:nvPr/>
        </p:nvPicPr>
        <p:blipFill>
          <a:blip r:embed="rId1"/>
          <a:stretch/>
        </p:blipFill>
        <p:spPr>
          <a:xfrm flipH="1">
            <a:off x="6029280" y="2286000"/>
            <a:ext cx="3114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Developing Your Budg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Grants Office must be involved in this portion of proposal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restatement in dollar terms of the methods section - no surp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listic, don’t inf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parts to a bud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budget form which breaks the budget into specific categ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udget narrative that explains how you arrived at these figures and why you need the mo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5" dur="indefinite" restart="never" nodeType="tmRoot">
          <p:childTnLst>
            <p:seq>
              <p:cTn id="2166" dur="indefinite" nodeType="mainSeq">
                <p:childTnLst>
                  <p:par>
                    <p:cTn id="2167" nodeType="clickEffect" fill="hold">
                      <p:stCondLst>
                        <p:cond delay="indefinite"/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nodeType="clickEffect" fill="hold">
                      <p:stCondLst>
                        <p:cond delay="indefinite"/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6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nodeType="clickEffect" fill="hold">
                      <p:stCondLst>
                        <p:cond delay="indefinite"/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wo Types of Cos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Direct and Indir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nodeType="clickEffect" fill="hold">
                      <p:stCondLst>
                        <p:cond delay="indefinite"/>
                      </p:stCondLst>
                      <p:childTnLst>
                        <p:par>
                          <p:cTn id="2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Comic Sans MS"/>
              </a:rPr>
              <a:t>Direct Cos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sts that can be identified specifically with a particular sponsored project, an instructional activity, or any other institutional activity; or that can be directly assigned to such activities relatively easily with a high degree of accura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at is a Gran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Grant is a conditional gift or a conveyance of funds with strings attach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funding source identifies the problem they want addressed, but no outcome is kn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idea originates with the grant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Indirect or Facilities and Administrative (F&amp;A) Cos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sts that are incurred for common or joint objectives, and, therefore, cannot be identified readily and specifically with a particular sponsored project, an instructional activity, or any other institutional acti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irect Rate is negotiated with Cognizant Auditing A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7" dur="indefinite" restart="never" nodeType="tmRoot">
          <p:childTnLst>
            <p:seq>
              <p:cTn id="2208" dur="indefinite" nodeType="mainSeq">
                <p:childTnLst>
                  <p:par>
                    <p:cTn id="2209" nodeType="clickEffect" fill="hold">
                      <p:stCondLst>
                        <p:cond delay="indefinite"/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nodeType="clickEffect" fill="hold">
                      <p:stCondLst>
                        <p:cond delay="indefinite"/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What Happens to Indirect Cost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ording to College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/3 to Business Office, a % of which must go into the Facilities Maintenance F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/3 to Grant Writer, currently used for mini-grants and to supplement conference bud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/3 to PI’s department without rest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0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nodeType="clickEffect" fill="hold">
                      <p:stCondLst>
                        <p:cond delay="indefinite"/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0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st Share or Mat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unders like to see that the institution is putting funds into a project as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Matc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- A 50% match for a $100,000 grant is $5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50%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ost Shar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the total project cost where the funder puts up $100,000 is $100,000 because it is 50% of $200,0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1" dur="indefinite" restart="never" nodeType="tmRoot">
          <p:childTnLst>
            <p:seq>
              <p:cTn id="2242" dur="indefinite" nodeType="mainSeq">
                <p:childTnLst>
                  <p:par>
                    <p:cTn id="2243" nodeType="clickEffect" fill="hold">
                      <p:stCondLst>
                        <p:cond delay="indefinite"/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nodeType="clickEffect" fill="hold">
                      <p:stCondLst>
                        <p:cond delay="indefinite"/>
                      </p:stCondLst>
                      <p:childTnLst>
                        <p:par>
                          <p:cTn id="2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nodeType="clickEffect" fill="hold">
                      <p:stCondLst>
                        <p:cond delay="indefinite"/>
                      </p:stCondLst>
                      <p:childTnLst>
                        <p:par>
                          <p:cTn id="2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osting Princip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MB Circular A-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sting Principles for Colleges and Univers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ke costs must be treated the s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can’t give a private foundation a better deal than you would give the federal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8" dur="indefinite" restart="never" nodeType="tmRoot">
          <p:childTnLst>
            <p:seq>
              <p:cTn id="2259" dur="indefinite" nodeType="mainSeq">
                <p:childTnLst>
                  <p:par>
                    <p:cTn id="2260" nodeType="clickEffect" fill="hold">
                      <p:stCondLst>
                        <p:cond delay="indefinite"/>
                      </p:stCondLst>
                      <p:childTnLst>
                        <p:par>
                          <p:cTn id="2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9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nodeType="clickEffect" fill="hold">
                      <p:stCondLst>
                        <p:cond delay="indefinite"/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How Do we Determine if a Cost is Allowable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ly required for federal, but most institutions apply to all sponsored pro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REASONABLE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 prudent business person would have purchased this item and paid this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ALLOCABLE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ssigned to the activity on a reasonable b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CONSISTENTLY TREATED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like costs must be treated or costed the same in like circum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6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Categories of a Budg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lar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inge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erials &amp; Sup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a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Total Direct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+ Indirect Cost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50021"/>
                </a:solidFill>
                <a:uFillTx/>
                <a:latin typeface="Comic Sans MS"/>
              </a:rPr>
              <a:t>35% of Sal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Total Federal Sh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+ Cost Sh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Total Project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Salar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may not give yourself a ra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r time must be figured in % of effort as it relates to 10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may not work more than 100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ademic yr. = $42,000 x 50%FTE = $21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mmer = $42,000/9x2mos. X 50%FTE = $4,66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s section is for Whitworth employees or students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2" dur="indefinite" restart="never" nodeType="tmRoot">
          <p:childTnLst>
            <p:seq>
              <p:cTn id="2303" dur="indefinite" nodeType="mainSeq">
                <p:childTnLst>
                  <p:par>
                    <p:cTn id="2304" nodeType="clickEffect" fill="hold">
                      <p:stCondLst>
                        <p:cond delay="indefinite"/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3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nodeType="clickEffect" fill="hold">
                      <p:stCondLst>
                        <p:cond delay="indefinite"/>
                      </p:stCondLst>
                      <p:childTnLst>
                        <p:par>
                          <p:cTn id="2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Fringe Benefi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ries according to classification of employee and sa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culty are generally 2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mmer benefits are less - around 16% (health benefits not in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3% for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nodeType="clickEffect" fill="hold">
                      <p:stCondLst>
                        <p:cond delay="indefinite"/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5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Tra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s section is only for Whitworth employee travel.  All other travel goes under contra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irf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 di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d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ound Transpor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ference 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y America 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7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nodeType="clickEffect" fill="hold">
                      <p:stCondLst>
                        <p:cond delay="indefinite"/>
                      </p:stCondLst>
                      <p:childTnLst>
                        <p:par>
                          <p:cTn id="2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2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7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2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7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Comic Sans MS"/>
              </a:rPr>
              <a:t>Materials &amp; Suppl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consumable office supplies such as pens, pencils, paper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uter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 Supp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oks, jour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8" dur="indefinite" restart="never" nodeType="tmRoot">
          <p:childTnLst>
            <p:seq>
              <p:cTn id="2399" dur="indefinite" nodeType="mainSeq">
                <p:childTnLst>
                  <p:par>
                    <p:cTn id="2400" nodeType="clickEffect" fill="hold">
                      <p:stCondLst>
                        <p:cond delay="indefinite"/>
                      </p:stCondLst>
                      <p:childTnLst>
                        <p:par>
                          <p:cTn id="2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4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nodeType="clickEffect" fill="hold">
                      <p:stCondLst>
                        <p:cond delay="indefinite"/>
                      </p:stCondLst>
                      <p:childTnLst>
                        <p:par>
                          <p:cTn id="2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9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4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9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7T15:25:25Z</dcterms:created>
  <dc:creator>regtest</dc:creator>
  <dc:description/>
  <dc:language>en-US</dc:language>
  <cp:lastModifiedBy>Katy</cp:lastModifiedBy>
  <cp:lastPrinted>1999-05-17T18:32:11Z</cp:lastPrinted>
  <dcterms:modified xsi:type="dcterms:W3CDTF">2012-05-22T18:23:34Z</dcterms:modified>
  <cp:revision>22</cp:revision>
  <dc:subject/>
  <dc:title>Grant Writing 101</dc:title>
</cp:coreProperties>
</file>